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C537-F65E-4211-9A11-B6454778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F60-8A4A-43E2-B469-002FD768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0DCAC-0414-45AD-8E54-D810E229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A3D7D-D6C1-451B-9BAB-A3E2383E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1561F-01E7-45BE-97A8-A595F4C8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CC3DD-3224-487F-A24B-2A5C971E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EBB28-9F2E-40F9-8310-8BB566E4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CBA35-0B5A-47B0-9147-E8BBAFBD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742E8-3E86-4910-A52A-CF2A4DF1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0D45F-0C39-4D6F-85FC-52EDC07E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B3DED-608B-488C-A8DA-13617FFA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D5B60-23B3-4626-9DEE-2AFB0966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59A9-01C0-4A7D-B438-525CFEC7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1A82B-3E47-4813-80A0-F4FFD3B0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652BD-9D69-43B0-B416-CFAF1550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0230F-C883-48ED-8E80-245EE837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8747A-48F1-4210-8C80-0E29A1F3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2576E-1483-4000-AC15-E2D91664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1FB99-634E-41EB-AE64-1187785D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C28D6-C8EA-4CD1-913C-19CC6705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13F59-DAD0-4797-B95C-A201C89F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FED94-410F-4F88-9D8A-7F3C70A5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4F5B7-7AFC-4B78-9B6D-428DB0AD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0D9-BEC9-477E-A503-9C19E06D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402D0-AB3E-4652-8E23-20236AA3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0CF98-E682-4202-BD9B-C51D4493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64A42-023B-4657-828F-054CB850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D217D-FF1C-4240-82C8-8ACF7E73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49956-7201-40B4-AF3F-AEB43162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CD50B-6851-4F5E-A214-EAB17294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3A309-F5D3-4C03-9933-C6D65443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A4005-5E78-47B3-BDEC-31A662AD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48604-4569-4F74-B902-F4937090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2C854-B797-4C11-A906-86C2C8F9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F7E4-892C-48FD-B9D5-0F5190DF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94629-70A0-43E8-9972-2DC281B0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93B63-50AB-46E6-A601-BFC21071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E480C-9BA1-43BE-82D5-B74DFD26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BFAC8-2675-488E-893D-E27B1438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7FC03-C20F-4B82-ADDB-53DE3659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D3DAE-365C-478F-816D-99A1C624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598BE-76D0-4973-9A27-AB4945A8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79AF0-EED5-4613-842E-4580985B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ABDDB-A894-4294-9ADA-D4138916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C8295-72CF-47EC-B8D0-0DBEE152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4759-0FF4-4FC1-86ED-4EFA08C3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DE4C5-8A9C-4031-B007-7580C6B5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88366-018A-4116-8FE0-76C1D979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F2DBA-BB72-44F8-A9D2-40BAD83A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299C9-0E25-455B-B488-D37BB2A6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86D90-468F-48C0-A0E6-559DB46B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04231-719D-4C69-B15E-17A71E3F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A0945-D134-4F2C-97A1-26034C56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88222-18F3-4503-9FA3-3799263F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2BEBA-5BB0-4B15-9461-F268E05E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EB30F-9F82-45D7-AC60-F872FC94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860C-53F6-4187-B0CD-363299B3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A0DF4-F0E2-4DE8-8546-E0E27032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7AC96-D4C6-4F7E-9A83-FC9D9847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3062E-E6D8-4BD4-B222-035B24A1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93ACA-B308-45E1-9652-85B27DEB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C560B-F181-4C55-923A-CB6D9813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9A943-70DD-40BB-90A6-D295A948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3337D-8E4A-4A07-97E8-81068859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C3645-B994-4746-BCBF-889222D5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C41C07-8753-4E15-8693-631B33B7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BEEAC-C752-4A13-98BD-2BD0D6DB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16BD-666E-4BAE-BCBF-A013AA41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0D01E8-FD6D-4281-9E95-228B5E36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4D962-2EC7-4B1E-93B5-60161F21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60FD4-5E2F-4F35-AE4D-307F15D5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59887-0D84-4D1C-8CDA-798AF907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03C35-2774-45F3-B365-EC881548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41808-87CB-425A-BDA4-2763C1A0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62A697-F441-4A7D-B66C-0E21C8C0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29F00C-327A-4372-A417-CA93B597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D8BFF-872B-407D-9983-1259F6AC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74DD05-86FC-4E10-85BB-4E4D3CCB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BD67-8136-4B0B-BF58-503DBD1D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5FD76-E502-4596-9D84-BECACB90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348CB-CB3A-4395-93E2-78C60369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CF0FF1-7E2E-43CF-943C-BC87EDF3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F10FA0-6488-466E-A741-79C7B636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15FD67-F1F1-49A0-A5F7-89EF2E76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E9038E-AF3F-416B-805F-116E9B19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EA2E9-20BC-4CA6-B955-857A2A53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3FF521-4D85-4CF6-8EE7-DAA6CE60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89C7F-7567-442E-94A0-EA0D4C47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086C2E-BE68-4117-B8FC-B9F19E5E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338E-35A4-44E1-9421-FFDD4595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BEE747-2683-465D-BA63-C537FDBC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51778-C4CE-4021-B811-1C6A9C77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BA29B5-F276-44F0-86B8-E383541F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5951FA-BA4D-4874-BAF5-32C3D7F9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804C78-AFEF-49A3-A88E-D8899F52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C05D55-8CE9-4FE3-9485-793ADC60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56F488-A9B6-4147-A0B3-93AB5BA7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CF579E-BAF0-4464-B32B-AEBEAC66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F24C7F-B876-4C7C-9A42-E6A57BE1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36E5B-C2A9-4E18-BB8B-83977F20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3324-D05A-40DB-9520-C11D33D8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628CE-1295-443F-A246-6AC6C289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DF999-2A94-4A71-B771-190A5366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22C99-5E0A-430D-9EAD-723AB464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35EDA-A579-4D46-96FF-6C089DEE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E6177E-B817-4B39-9AE5-B4FB8770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E66291-BC41-4A8C-9464-84E91A57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46EA6F-2DFB-4402-BF41-E050163D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F65B31-46B7-40D2-8E07-A44D3292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6D58E0-7901-4E38-BC45-A1617D08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34052C-96FD-4D91-8CA9-098D9775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663-3680-49E8-997B-875A1829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A309-8948-47AC-9D1D-C78EDB2F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94754-B1F8-4AB1-909C-567A7C8B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6CE08-31BA-4977-8AAB-E87B95E0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62DA7-7458-4A37-BB59-F159A07C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555DC9-957F-4F20-BC9F-EAAC478C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D35F47-5008-4BBA-8A9E-265AAFF5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DA7EC8-A17A-4403-BC37-B6E803CC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3222E2-1D35-452A-9C40-DC892C23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E31B02-4CE9-4CB0-BC17-E834426B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5C169B-D5F6-4D17-9936-C7782520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B561F7-3579-4016-9E5B-2ACAA20B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E4AA-2446-482C-BD30-5312622E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166A6F-B5AE-4AC6-B6D4-EF89162C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F630D4-420C-4359-A0B0-4CBB1122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A8D712-CC76-49D2-BA53-1FBF4165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9C7EF0-7F2A-457B-828D-09532F93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EDA86F-DB82-41B9-BCB7-1908805E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41D411-08DD-44AC-BF8C-1583B77A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08A668-D951-4D29-84C0-091DB287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49608-1549-4D6E-829D-4470C187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B87CC0-E147-4639-B7E0-0D190321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5333A7-1683-49A9-9104-9A8CA1AF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A3B4-81CF-4D89-A58F-0C489835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9BD87A-F3AF-4FF6-BC4E-894A9637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7347B2-D7AB-4E38-BF4A-1C377C46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147AF7-706A-421B-86F8-E5BCFA00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41205-C109-45EF-80AF-CD62DFA9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CEE19C-CAA9-413F-8638-58980642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9222DE-DD1C-492A-BC96-9BF5EFE8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4594DB-B278-455B-8DD3-803614E8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E942C0-1984-40B3-81AC-E0D330E9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540AD4-C610-4D56-AD31-AACC925D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D8835E-A593-4A87-B42F-B6F3060A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367B-69E4-4961-B26D-9DCC7CDD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401C7B-43BA-43C9-B1F4-4FBE4995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505FDC-B46E-439D-B191-16F430D3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010CD4-6AAF-40A4-A130-AF016AB0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062029-24D5-4369-BCAC-0F8B306D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9C7E47-167D-427B-8E57-D1976CB2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2ED757-8505-4623-86A2-DAB1FBFF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296F83-099D-4C96-9847-E92F08C6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F2D177-BD25-4C99-AEA7-CA176E41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F714BF-4319-4681-A87F-47DB9D09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8A675B-2AB6-458F-8C51-2ECF84D2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C93A-8510-4344-BC3C-D32E0425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7077CE-59D5-4A29-9B9B-7077C583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19445D-E5E6-43F8-A790-CEEFBD40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F3E76F-5B40-4C16-A533-2787F755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304C0A-A49C-44AA-81E9-7B670F7F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60D3A3-CD00-43E4-B708-16150776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D0AA87-E0D4-42AE-8D7D-69F3A0AC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340E74-02E8-476F-A09D-F35997E4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274D41-46B5-4494-9062-EA146737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378A6E-B6A0-40B3-9327-12DCBA82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B2C6EA-C894-4C27-92E8-18A499FD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6D52-100A-4F89-AD42-14D1B15F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313913-272D-42F0-8469-5D9CD2AC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2BD4FA-E17E-41E8-AD22-A1D30882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B6B90D-35F5-404C-9288-D386CD8C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7C91F6-16D5-447E-AA29-8E8D1C22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F79DC8-A12C-4A73-97EC-F1B41053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38D87A-DE4F-4623-9747-3D2E820E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161902-C92F-4329-91FE-41906395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87B247-45CE-49FF-B0EF-34C0E9B0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27F6C9-CC3F-4537-895F-0E2934DA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80E77C-314B-4C8F-8848-342B55DD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23DAB-2D51-465C-A5E7-5F1252B5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D53569-B093-45FA-8072-21ED8948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CF3DED-2ADE-489C-A996-6DB88D68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89449A-9AA7-4727-B480-C92D090A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7A7878-A751-4277-AEFF-49C951D7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F896BB-99DA-43F7-A685-26B38FAE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5B864B-3312-47E9-88F7-944810C5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662D07-C45F-406E-91E6-6B78FF4E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0281A3-5AFD-483F-AE93-A97F3B3E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6A14D6-F7A3-41B7-9495-91DEE1FF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BF8624-F440-466C-AADF-72E61144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CFC42-73B2-4D73-A5B9-0398763D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78BEBA-2ABB-42A4-A70B-8CEE9F96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4978BD-D07F-4376-8460-15050995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E85F7E-202A-4879-8F8B-A0A1F543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1399E3-999C-4CF6-9194-0D677A19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FD3563-6259-4894-A824-30529BA0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F5993D-D1EE-46EE-85F7-45DFC0A5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37954D-3DE2-4BD2-9EA5-063AC90A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3D40A-7CF6-4BAE-BEE3-3392068A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E3D1-699E-416F-A698-79EFDE4E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F1F-F1CA-49DA-BAE7-D8020D80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41584-33CB-47F2-821B-E4C281F1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038E2-2524-4F86-A925-997C26EF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5A3C-BEBF-424C-BAF4-FF505FC2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CE09-031D-41BB-871E-C3346C3B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0D4EC-71AE-4370-9DF9-7122275A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43A58-AAD9-4C4A-B658-8A1814F2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E6C3C-F4B8-40B1-9293-26FB7AAF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00F3C-9F40-4BF6-BCCB-196A7074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1ED63-6E22-4D4A-9EB7-07D0F6E9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59877-069B-424B-B840-00BE743D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313-3845-41B3-9F3F-2AB49B4F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66FD9-15C6-43E3-9201-27ACF4EF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602F7-8C91-4818-922D-397E793D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46E51-AF56-4160-8C7B-55DCE98C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70821-BAB5-42D3-BEA2-16DC6BE5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EAE9E-5CBA-482E-9DCF-5A84C4A8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35C0B-868C-45EE-9DB9-C53A32FF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0FC9-F5D0-43B2-8503-29EFC93F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E5D12-2E9F-4C81-8AD6-0B6C55DD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6A8BA-B632-48CB-93CA-23048BF5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D9188-B319-4B26-91A7-A244D5EF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206-E8FD-40D4-B5DE-275B5CD1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70F28-C216-4E04-ADE8-30463C6F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C4981-0768-40B1-8F12-E47E2F6A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B1E51-D075-4C97-8E2D-6A4BFF02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07AB-4906-4198-9B2B-3C7BE949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BB652-772B-4E17-931E-7D835312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0AC7D-1D1F-4376-95A5-3DD3A1DD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1BD81-BF07-495F-BF76-61E456CC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459B4-4E41-46DA-9669-C039E65F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0C1F9-252D-4151-8966-26977D71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2A47C-7CEA-49C0-AF10-6223E555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E36-38E0-460B-AAE7-081CA083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F74BF-1DDA-405D-A5F1-B9F6423D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7CF3F-5678-4506-9617-2360AF52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6C3C6-63ED-46CA-A6CE-2527A7F2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A0A00-303D-44FD-9321-B4C4DECC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5E7F0-EC7A-4A9D-8742-FA2D3AF2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8835D-F755-46A1-BE56-E5E86945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2EF59-2E3C-430C-8816-5EE9D441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94B9F-50AF-4598-9DE7-022ED980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63890-58BC-4E70-A0A9-D715CE4D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10362-E79B-4FCB-8697-A564EABF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123-6FE5-4225-88CD-86D990E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B5A8A-27A0-4C7A-89B8-391F087F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F9D6D-B76E-4332-865E-500422BA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390A9-DC2E-4FF1-A8A1-BA0F2CB8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F1169-4062-42BC-9AAA-D02F1F1A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960F8-F2F3-4150-8870-86050FB3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C0309-023F-48C2-BDB5-3B9AB205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913B7-7AF9-479B-B2F8-B1B559C8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B492C-3F3C-4FC9-AF3A-0AC0E0FD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1938E-C13E-4F12-A28C-BDD04B0C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B885F-1AC2-40DE-A8CC-DBE75A1A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6FA-7FD3-46BE-9556-1AD74696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6DE9C-E7C9-4E9A-A626-6EF42876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A6DC2-BA17-4107-9C9B-CF118423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FB12D-5064-434C-BCD1-98AD5BF7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E7C67-61EC-49CB-80C2-71CA7B49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A5D4E-137A-49EF-91A8-A368E2EA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0E2B3-6DDD-4FB2-8300-C9439557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36D57-0388-4BAA-95D3-CAC76ED2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BC1FB-72EB-42F6-B8F2-8658AB14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65D2C-C8AD-4E18-B4F2-F1670919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FE499-8900-468E-B601-AB54F50C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5A9-C133-4DBF-A308-3F9B94E6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54A3A-2211-4822-B943-2CE108EA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33047-DB1A-4BDB-A7FC-D9370933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C0C75-DEEA-4F7C-A9F2-615692F0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BB73B-02D3-4095-880C-40E3B3D6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68CC0-880D-4AE9-9F63-08CE831D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A9DE5-BE2C-421E-9257-3D440CF3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0B136-0F36-47F8-8FC0-83E26A64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E978D-1545-4AF3-98EC-96171247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92A5B-97EB-4157-A42D-8443A0E2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301A1-1147-4BC8-BF15-EA7C5C20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7AB3-E776-455A-8472-DCE311642E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4379-42AD-4048-A38E-7C9822425E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9EEE-C9DF-4AD3-9186-E9965613C5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E2B9-21F2-4A31-B93A-B37477770A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FE4D-6B97-42E5-9E02-231ECA8F22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4A57-1902-4260-B60C-DC0E3752C2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C154-A326-40CB-A95D-0D7E829DEA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A109-DBB5-4B11-B4E0-C0A5EC5028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335F-57D8-4A03-9A65-90580726A3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7F6C-A5DA-4983-AEAC-FDE0214F9E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FFE6-552F-48BE-BA96-B73AFA2F06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2873-8145-48FF-905E-3C627DE1F9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1B91-CC94-4F03-BCC2-71EFC284EF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6949-957F-4A97-AC23-BCA44CDB2F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1501-0A95-4026-A5B9-1DAC40B8B7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8AFA-6DA8-45CA-8E6B-969F853DE0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7CE3-2B5C-4847-A804-CE35494182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34D7-4DA7-4FB7-A881-F2E4991438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3384-44E2-42E0-9A14-9247794F74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979A-163F-4D0E-A997-8BE489D4E2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1A69-A04D-4620-BE8D-5261A49F05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D64E-4AF1-4E59-BB38-7DB1AB905F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7A45-AC9F-46DF-8167-12C709D4DB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1147-CB00-4A9B-B4F3-95C2CA8B2E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6B9F-82D1-498A-9071-1C62792DFF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6BB4-EAB7-4F18-81DB-1F87042071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7258-7007-4ED0-BC31-137483A5E9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FF6A-D089-4CDA-BEF9-D7B8AD2363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5BF3-A5CE-4288-B955-2ED71190F4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B3FD-4A59-46CB-8000-AF3A110776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E556-1848-4521-B3CE-0E98364751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9E75-CDC2-4A44-9030-F263C1BCB5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52DF-93DF-4C42-B09B-8C4081E95A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52B2-DDED-4570-9306-C81D64C1E70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75E2-DF7C-4808-AED8-A1C89F344B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FA49-A0B7-4413-AED5-4289DE7645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B92D-00F4-4293-BCDC-7E39E2C2A4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A12D-43C7-43FC-B3D9-259EB5F608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4A8A-05D9-4ACD-9F55-50F007B796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7FF9-3BDA-49F3-A3D2-26B42C36F0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0FEA-FBCE-4682-AC67-E70E031740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7999-00C4-4444-AC18-9EC2160963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46160" y="3013200"/>
            <a:ext cx="885168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47520" y="1290600"/>
            <a:ext cx="9048960" cy="198900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2" descr=""/>
          <p:cNvPicPr/>
          <p:nvPr/>
        </p:nvPicPr>
        <p:blipFill>
          <a:blip r:embed="rId2"/>
          <a:stretch/>
        </p:blipFill>
        <p:spPr>
          <a:xfrm>
            <a:off x="1108080" y="3803760"/>
            <a:ext cx="7067520" cy="22669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3059280" y="177336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3132000" y="229068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5651640" y="1844640"/>
            <a:ext cx="64908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5796000" y="2349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8229600" y="1773360"/>
            <a:ext cx="66348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8"/>
          <a:stretch/>
        </p:blipFill>
        <p:spPr>
          <a:xfrm>
            <a:off x="8537400" y="2392200"/>
            <a:ext cx="470160" cy="4478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9"/>
          <a:stretch/>
        </p:blipFill>
        <p:spPr>
          <a:xfrm>
            <a:off x="3203640" y="436572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10"/>
          <a:stretch/>
        </p:blipFill>
        <p:spPr>
          <a:xfrm>
            <a:off x="3132000" y="50133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11"/>
          <a:stretch/>
        </p:blipFill>
        <p:spPr>
          <a:xfrm>
            <a:off x="6443640" y="43797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12"/>
          <a:stretch/>
        </p:blipFill>
        <p:spPr>
          <a:xfrm>
            <a:off x="6488280" y="5070600"/>
            <a:ext cx="86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457200" y="419040"/>
            <a:ext cx="8229600" cy="63532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258920" y="2103480"/>
            <a:ext cx="25210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332000" y="2781360"/>
            <a:ext cx="25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146560" y="210168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219640" y="277956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969840" y="492588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1042920" y="560376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1116000" y="630864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5234040" y="492588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5307120" y="5603760"/>
            <a:ext cx="3313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185760" y="1204920"/>
            <a:ext cx="8772480" cy="44481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1908000" y="4290840"/>
            <a:ext cx="288000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6300720" y="429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2916360" y="5013360"/>
            <a:ext cx="338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571680" y="2019240"/>
            <a:ext cx="8001000" cy="28195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403280" y="350028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558000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2700360" y="4221000"/>
            <a:ext cx="324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19240" y="895320"/>
            <a:ext cx="8705520" cy="50673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826920" y="2521080"/>
            <a:ext cx="532944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532944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532944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971640" y="4653000"/>
            <a:ext cx="53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684360" y="5359320"/>
            <a:ext cx="532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142920" y="1066680"/>
            <a:ext cx="8858160" cy="47246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900000" y="2565360"/>
            <a:ext cx="475164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475164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900000" y="3789360"/>
            <a:ext cx="475164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971640" y="4365720"/>
            <a:ext cx="475128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755640" y="4998960"/>
            <a:ext cx="4751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76040" y="852480"/>
            <a:ext cx="8791920" cy="51530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900000" y="2967120"/>
            <a:ext cx="496728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971640" y="422100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971640" y="479736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755640" y="5445000"/>
            <a:ext cx="496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907920" y="74520"/>
            <a:ext cx="7583760" cy="6708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547640" y="3875040"/>
            <a:ext cx="669636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669600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1476360" y="5084640"/>
            <a:ext cx="669600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1476360" y="5589720"/>
            <a:ext cx="669600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1519200" y="6222960"/>
            <a:ext cx="669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162000" y="1628640"/>
            <a:ext cx="8820000" cy="36007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284328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3995640" y="3789360"/>
            <a:ext cx="11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5:3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